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3DE1-531E-4FB9-9F57-1DD56953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FAE-3424-42E4-8E25-4E1B848B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A704-D560-4B02-A4B6-6F93A191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61D-4C7C-41BD-9408-325C4774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7EA-65EC-41E6-9710-0B9D494D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02C3-76CE-4CAD-8366-26C027FE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506B-A76C-40B0-B986-86295B81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783-D561-42E2-BA36-75AFF223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A872-8D81-48D4-8FCF-F9102999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7D5-B814-4B71-A610-1E0E466E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B554-5B49-4B12-8662-453D60A8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A64E-9DCC-441C-BF93-FB987262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92D1-2C77-42A0-BCB3-84F687102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0"/>
          <p:cNvSpPr/>
          <p:nvPr/>
        </p:nvSpPr>
        <p:spPr>
          <a:xfrm>
            <a:off x="0" y="0"/>
            <a:ext cx="12192120" cy="19144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90320"/>
            <a:ext cx="1051560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Blood Utilization Campaign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1" descr="When there is a need for transfusion? &#10;1 Not 2 Transfuse the minimal amount of RBC units followed by a clinical assessment for the need of additional transfusions. &#10;7 Not 9 Transfuse RBC at Hgb less than 7.0g/dl in stable patients"/>
          <p:cNvPicPr/>
          <p:nvPr/>
        </p:nvPicPr>
        <p:blipFill>
          <a:blip r:embed="rId1"/>
          <a:stretch/>
        </p:blipFill>
        <p:spPr>
          <a:xfrm>
            <a:off x="77760" y="2022480"/>
            <a:ext cx="1211436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466560" y="447840"/>
            <a:ext cx="3414960" cy="38019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7960" y="731520"/>
            <a:ext cx="2844720" cy="32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Blood Utilization Campaign coming up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466560" y="4419720"/>
            <a:ext cx="3414960" cy="1979640"/>
          </a:xfrm>
          <a:prstGeom prst="rect">
            <a:avLst/>
          </a:prstGeom>
          <a:solidFill>
            <a:srgbClr val="5b9bd5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4044960" y="447840"/>
            <a:ext cx="7688160" cy="5952960"/>
          </a:xfrm>
          <a:prstGeom prst="rect">
            <a:avLst/>
          </a:prstGeom>
          <a:solidFill>
            <a:srgbClr val="7f7f7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5" descr="Less is more for transusions- The best evidence indicates a more restrictive approach (HgB trigger &lt; 7 g/dl and prophylactic PLT threshold &lt; 10K) not only saves blood but also saves lives.&#10;&#10;Why give Two when One will do! - In the absence of acute hemorrhage, RBC transfusions should be ordered as single units followed by a clinical reassessment prior to any additional transfusions. "/>
          <p:cNvPicPr/>
          <p:nvPr/>
        </p:nvPicPr>
        <p:blipFill>
          <a:blip r:embed="rId1"/>
          <a:stretch/>
        </p:blipFill>
        <p:spPr>
          <a:xfrm>
            <a:off x="4370400" y="689040"/>
            <a:ext cx="70531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6-23T05:13:04Z</dcterms:created>
  <dc:creator>Abumuhor, Ihab A</dc:creator>
  <dc:description/>
  <dc:language>en-US</dc:language>
  <cp:lastModifiedBy>app</cp:lastModifiedBy>
  <cp:lastPrinted>2022-08-24T22:15:45Z</cp:lastPrinted>
  <dcterms:modified xsi:type="dcterms:W3CDTF">2023-09-22T20:44:10Z</dcterms:modified>
  <cp:revision>91</cp:revision>
  <dc:subject/>
  <dc:title>Quality Assurance Meeting</dc:title>
</cp:coreProperties>
</file>